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D65-86DB-48EA-BE5B-CB3E2F1B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255-3072-4863-ADD6-932AB6F2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40C-2807-4B30-890D-3A86CA80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76D-57E9-40BC-921E-85F1A7AF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B98C-2A8B-4FDC-98A4-524D6F22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8EF1-D725-4FCA-BD3F-1AC029DC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26AF-079C-4D0A-9581-019BA814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4B6F-5159-4912-AE5F-705E6FBD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5E05-C6A1-4138-9913-2A233A59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3711-C00B-4DB9-99DB-B7CE76FC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7A9D-970B-4259-9E16-02F0E7B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129-7B65-4E9A-967F-42B1EA0A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8EAE-C8A6-4669-AE30-4511004C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A85C-2B5E-4CEE-A6D4-2E897AF1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BC3B-10F2-4771-9B70-91D585CC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967A-9249-4C56-86DA-D346B84B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DB4D-472E-47F4-8E0D-217DC08B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813-C3C7-4278-B745-D9C55A32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9F4-5E1B-411C-9281-1F7DDA25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A68-4753-4AA3-8E85-09B730D9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AA2-4777-4459-AADB-C714144E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F21-2DB6-48FB-8CF3-F2442D4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071-A699-4C41-BB34-D3FC7350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970-464C-4178-9CE9-3A112538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B8F6-77F9-41EE-8387-BB513C6B4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8A69-8BA2-4224-81A1-656EA8C484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42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n, In Six Word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4419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social contract.  Write your description on a post-it note with your n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304920" y="228600"/>
            <a:ext cx="6476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CALL TO ORDER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752480" y="1523880"/>
            <a:ext cx="5451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ut your homework in the upper-right hand corner of your desk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e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2) Monarc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ader is part of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royal famil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inherit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pow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n exist within another government, but monarch has no power (i.e. modern queen of England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ple: King George III of Englan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33520" y="1371600"/>
          <a:ext cx="4190760" cy="524340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er King George III of Englan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952880" y="1371600"/>
          <a:ext cx="3962520" cy="525780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Queen Elizabeth of Eng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Picture 22" descr="george-iii"/>
          <p:cNvPicPr/>
          <p:nvPr/>
        </p:nvPicPr>
        <p:blipFill>
          <a:blip r:embed="rId1"/>
          <a:stretch/>
        </p:blipFill>
        <p:spPr>
          <a:xfrm>
            <a:off x="533520" y="2362320"/>
            <a:ext cx="4190760" cy="4267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4" descr="royal_queen"/>
          <p:cNvPicPr/>
          <p:nvPr/>
        </p:nvPicPr>
        <p:blipFill>
          <a:blip r:embed="rId2"/>
          <a:stretch/>
        </p:blipFill>
        <p:spPr>
          <a:xfrm>
            <a:off x="4952880" y="2362320"/>
            <a:ext cx="396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e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3) Oligarc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Small group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f leaders are determined b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wealth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or social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posi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majority of citizens are not members of the powerful grou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ple: Communist Party in Chi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ligarch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5" descr="oligar4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ligarc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5" descr="goverment-farm-subsidies-going-to-the-wealthy-01-af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e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4) Representative Democra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ote for some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 is elected to make decisions for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ple: United Sta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) Representative Democ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57200" y="1523880"/>
          <a:ext cx="3429000" cy="473076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 of Maryland Vo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648320" y="1447920"/>
          <a:ext cx="3886200" cy="45385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Elected Martin O’Malle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4" name="Picture 36" descr="voting_booth"/>
          <p:cNvPicPr/>
          <p:nvPr/>
        </p:nvPicPr>
        <p:blipFill>
          <a:blip r:embed="rId1"/>
          <a:stretch/>
        </p:blipFill>
        <p:spPr>
          <a:xfrm>
            <a:off x="457200" y="2362320"/>
            <a:ext cx="3429000" cy="3962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4" descr="434px-Right_arrow"/>
          <p:cNvPicPr/>
          <p:nvPr/>
        </p:nvPicPr>
        <p:blipFill>
          <a:blip r:embed="rId2"/>
          <a:stretch/>
        </p:blipFill>
        <p:spPr>
          <a:xfrm>
            <a:off x="3505320" y="3124080"/>
            <a:ext cx="1609560" cy="1600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3" descr=""/>
          <p:cNvPicPr/>
          <p:nvPr/>
        </p:nvPicPr>
        <p:blipFill>
          <a:blip r:embed="rId3"/>
          <a:srcRect l="0" t="0" r="47277" b="0"/>
          <a:stretch/>
        </p:blipFill>
        <p:spPr>
          <a:xfrm>
            <a:off x="5486400" y="2438280"/>
            <a:ext cx="220968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e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5) Direct Democra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vote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very issue themsel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is pretty unrealistic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ple: Massachusetts Town Hall Meet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) Direct Democ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6" descr="town%20hall%20meeting%20hall"/>
          <p:cNvPicPr/>
          <p:nvPr/>
        </p:nvPicPr>
        <p:blipFill>
          <a:blip r:embed="rId1"/>
          <a:stretch/>
        </p:blipFill>
        <p:spPr>
          <a:xfrm>
            <a:off x="1295280" y="2133720"/>
            <a:ext cx="6400800" cy="3809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vote"/>
          <p:cNvPicPr/>
          <p:nvPr/>
        </p:nvPicPr>
        <p:blipFill>
          <a:blip r:embed="rId2"/>
          <a:stretch/>
        </p:blipFill>
        <p:spPr>
          <a:xfrm>
            <a:off x="3962520" y="1066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8" descr="vote"/>
          <p:cNvPicPr/>
          <p:nvPr/>
        </p:nvPicPr>
        <p:blipFill>
          <a:blip r:embed="rId3"/>
          <a:stretch/>
        </p:blipFill>
        <p:spPr>
          <a:xfrm>
            <a:off x="5105520" y="1066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9" descr="vote"/>
          <p:cNvPicPr/>
          <p:nvPr/>
        </p:nvPicPr>
        <p:blipFill>
          <a:blip r:embed="rId4"/>
          <a:stretch/>
        </p:blipFill>
        <p:spPr>
          <a:xfrm>
            <a:off x="6324480" y="1066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0" descr="vote"/>
          <p:cNvPicPr/>
          <p:nvPr/>
        </p:nvPicPr>
        <p:blipFill>
          <a:blip r:embed="rId5"/>
          <a:stretch/>
        </p:blipFill>
        <p:spPr>
          <a:xfrm>
            <a:off x="7543800" y="1066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1" descr="vote"/>
          <p:cNvPicPr/>
          <p:nvPr/>
        </p:nvPicPr>
        <p:blipFill>
          <a:blip r:embed="rId6"/>
          <a:stretch/>
        </p:blipFill>
        <p:spPr>
          <a:xfrm>
            <a:off x="2819520" y="1066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2" descr="vote"/>
          <p:cNvPicPr/>
          <p:nvPr/>
        </p:nvPicPr>
        <p:blipFill>
          <a:blip r:embed="rId7"/>
          <a:stretch/>
        </p:blipFill>
        <p:spPr>
          <a:xfrm>
            <a:off x="1676520" y="1066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" descr="vote"/>
          <p:cNvPicPr/>
          <p:nvPr/>
        </p:nvPicPr>
        <p:blipFill>
          <a:blip r:embed="rId8"/>
          <a:stretch/>
        </p:blipFill>
        <p:spPr>
          <a:xfrm>
            <a:off x="533520" y="1066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4" descr="vote"/>
          <p:cNvPicPr/>
          <p:nvPr/>
        </p:nvPicPr>
        <p:blipFill>
          <a:blip r:embed="rId9"/>
          <a:stretch/>
        </p:blipFill>
        <p:spPr>
          <a:xfrm>
            <a:off x="152280" y="2209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5" descr="vote"/>
          <p:cNvPicPr/>
          <p:nvPr/>
        </p:nvPicPr>
        <p:blipFill>
          <a:blip r:embed="rId10"/>
          <a:stretch/>
        </p:blipFill>
        <p:spPr>
          <a:xfrm>
            <a:off x="152280" y="3352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6" descr="vote"/>
          <p:cNvPicPr/>
          <p:nvPr/>
        </p:nvPicPr>
        <p:blipFill>
          <a:blip r:embed="rId11"/>
          <a:stretch/>
        </p:blipFill>
        <p:spPr>
          <a:xfrm>
            <a:off x="152280" y="4495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7" descr="vote"/>
          <p:cNvPicPr/>
          <p:nvPr/>
        </p:nvPicPr>
        <p:blipFill>
          <a:blip r:embed="rId12"/>
          <a:stretch/>
        </p:blipFill>
        <p:spPr>
          <a:xfrm>
            <a:off x="152280" y="5638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8" descr="vote"/>
          <p:cNvPicPr/>
          <p:nvPr/>
        </p:nvPicPr>
        <p:blipFill>
          <a:blip r:embed="rId13"/>
          <a:stretch/>
        </p:blipFill>
        <p:spPr>
          <a:xfrm>
            <a:off x="1295280" y="60199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9" descr="vote"/>
          <p:cNvPicPr/>
          <p:nvPr/>
        </p:nvPicPr>
        <p:blipFill>
          <a:blip r:embed="rId14"/>
          <a:stretch/>
        </p:blipFill>
        <p:spPr>
          <a:xfrm>
            <a:off x="2590920" y="6019920"/>
            <a:ext cx="990360" cy="838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0" descr="vote"/>
          <p:cNvPicPr/>
          <p:nvPr/>
        </p:nvPicPr>
        <p:blipFill>
          <a:blip r:embed="rId15"/>
          <a:stretch/>
        </p:blipFill>
        <p:spPr>
          <a:xfrm>
            <a:off x="3886200" y="60199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1" descr="vote"/>
          <p:cNvPicPr/>
          <p:nvPr/>
        </p:nvPicPr>
        <p:blipFill>
          <a:blip r:embed="rId16"/>
          <a:stretch/>
        </p:blipFill>
        <p:spPr>
          <a:xfrm>
            <a:off x="7848720" y="2209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2" descr="vote"/>
          <p:cNvPicPr/>
          <p:nvPr/>
        </p:nvPicPr>
        <p:blipFill>
          <a:blip r:embed="rId17"/>
          <a:stretch/>
        </p:blipFill>
        <p:spPr>
          <a:xfrm>
            <a:off x="7848720" y="3352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3" descr="vote"/>
          <p:cNvPicPr/>
          <p:nvPr/>
        </p:nvPicPr>
        <p:blipFill>
          <a:blip r:embed="rId18"/>
          <a:stretch/>
        </p:blipFill>
        <p:spPr>
          <a:xfrm>
            <a:off x="7848720" y="44197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4" descr="vote"/>
          <p:cNvPicPr/>
          <p:nvPr/>
        </p:nvPicPr>
        <p:blipFill>
          <a:blip r:embed="rId19"/>
          <a:stretch/>
        </p:blipFill>
        <p:spPr>
          <a:xfrm>
            <a:off x="7848720" y="5638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5" descr="vote"/>
          <p:cNvPicPr/>
          <p:nvPr/>
        </p:nvPicPr>
        <p:blipFill>
          <a:blip r:embed="rId20"/>
          <a:stretch/>
        </p:blipFill>
        <p:spPr>
          <a:xfrm>
            <a:off x="5105520" y="6019920"/>
            <a:ext cx="990360" cy="838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6" descr="vote"/>
          <p:cNvPicPr/>
          <p:nvPr/>
        </p:nvPicPr>
        <p:blipFill>
          <a:blip r:embed="rId21"/>
          <a:stretch/>
        </p:blipFill>
        <p:spPr>
          <a:xfrm>
            <a:off x="6553080" y="601992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Can you figure out what </a:t>
            </a:r>
            <a:r>
              <a:rPr b="1" lang="en-US" sz="3300" spc="-1" strike="noStrike" u="sng">
                <a:solidFill>
                  <a:srgbClr val="ffff00"/>
                </a:solidFill>
                <a:uFillTx/>
                <a:latin typeface="Arial"/>
              </a:rPr>
              <a:t>specific</a:t>
            </a: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 type of government goes with each </a:t>
            </a:r>
            <a:r>
              <a:rPr b="1" lang="en-US" sz="3300" spc="-1" strike="noStrike" u="sng">
                <a:solidFill>
                  <a:srgbClr val="ffff00"/>
                </a:solidFill>
                <a:uFillTx/>
                <a:latin typeface="Arial"/>
              </a:rPr>
              <a:t>major</a:t>
            </a: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 type?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lide will provide you with information about Authoritarian (Totalitarian) and Democratic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down Authoritarian Govt and Democratic Govt in notebook in a T-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ke out your checklist from yesterd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have any questions you needed answering before the quiz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447920"/>
          <a:ext cx="4267080" cy="525780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itarian Government (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so known as Totalitarian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vides the LEAST citizen influen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ovt has </a:t>
                      </a:r>
                      <a:r>
                        <a:rPr b="1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bsolute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or </a:t>
                      </a:r>
                      <a:r>
                        <a:rPr b="1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unlimited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pow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itizens have no individual freedoms (</a:t>
                      </a: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controlled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nd censored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4724280" y="1447920"/>
          <a:ext cx="4114800" cy="50292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ocratic Governmen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vide the MOST citizen influen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ovt has </a:t>
                      </a: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limited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wers outlined in Constit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itizens have individual </a:t>
                      </a: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rights,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such as voting and free speech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hich types go in each category?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04920" y="1447920"/>
          <a:ext cx="4267080" cy="525780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itarian Government (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so known as Totalitarian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ctators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arch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ligarch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724280" y="1447920"/>
          <a:ext cx="4114800" cy="50292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ocratic Governmen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presentative Democra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 Democrac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ill be able to describe and categorize the types of authoritarian and democratic governments BY participating in a musical simulation and analyzing government headl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iz Taking Proced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not talk during any part of the test, even if you are finish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r will be posted at the front of the 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done, raise your hand and sit quietly.  I will come and take your quiz from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ill be able to describe and categorize the types of authoritarian and democratic governments BY participating in a musical simulation and analyzing government headl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cussion Ques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(remember to raise your han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’re at a party, do you like being in control of the music?  Or do you like others to be in control of the music?  Why?  Which is easier?  Which is more fu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es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 are going to focus on different types of government and the different ways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ke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ic will be selected based on the type of government we are discu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take “Cornell Notes” as the music pl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ould have a song list at your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rection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2819160"/>
            <a:ext cx="2057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09520" y="152352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the music is playing, you are to copy down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ype of gover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form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next to 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between each song, Mr. Dunklow will explain what to do 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part of the song will be pla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8" descr="music%20notes"/>
          <p:cNvPicPr/>
          <p:nvPr/>
        </p:nvPicPr>
        <p:blipFill>
          <a:blip r:embed="rId1"/>
          <a:stretch/>
        </p:blipFill>
        <p:spPr>
          <a:xfrm>
            <a:off x="304920" y="1828800"/>
            <a:ext cx="3429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e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1) Dictators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ader wears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militar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uniforms and takes power through brutal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forc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lections, if held, are not conducted fairly (100% of popular vot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ple: Saddam Hussein in Iraq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ctatorshi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371600"/>
          <a:ext cx="4572000" cy="52434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er dictator of Iraq: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ddam Husse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952880" y="1371600"/>
          <a:ext cx="3962520" cy="525780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dictator of Cuba: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del Cast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32" descr="sadhussein"/>
          <p:cNvPicPr/>
          <p:nvPr/>
        </p:nvPicPr>
        <p:blipFill>
          <a:blip r:embed="rId1"/>
          <a:stretch/>
        </p:blipFill>
        <p:spPr>
          <a:xfrm>
            <a:off x="152280" y="2362320"/>
            <a:ext cx="4572000" cy="4267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8" descr="028FidelCastroMOS_468x459"/>
          <p:cNvPicPr/>
          <p:nvPr/>
        </p:nvPicPr>
        <p:blipFill>
          <a:blip r:embed="rId2"/>
          <a:stretch/>
        </p:blipFill>
        <p:spPr>
          <a:xfrm>
            <a:off x="4952880" y="2362320"/>
            <a:ext cx="396252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3:28:59Z</dcterms:created>
  <dc:creator>CMTurk</dc:creator>
  <dc:description/>
  <dc:language>en-US</dc:language>
  <cp:lastModifiedBy>Molly Zeins</cp:lastModifiedBy>
  <dcterms:modified xsi:type="dcterms:W3CDTF">2010-09-18T01:47:04Z</dcterms:modified>
  <cp:revision>9</cp:revision>
  <dc:subject/>
  <dc:title>Slide 1</dc:title>
</cp:coreProperties>
</file>